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255-746B-4A89-839A-D8194D1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C07-1B6B-4FDC-8E82-DF26BC3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E8-E9E7-4056-8B23-E21363B4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708-6A3C-4E02-ACC0-BB363A8B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9E9-7436-445A-8274-06AEFE5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12B-DD2C-41FC-BCCE-7B12C8F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63B-0788-487C-A5B4-48F307A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B55-874C-4335-A331-B7FEB80A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EDD-104E-4D29-9DD6-8C5E2739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A23-A218-48C9-BBB2-84553CA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46A-F395-4A05-B5DF-D0FC260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B4F-232C-4E16-BCB5-0A90B45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FF8-F11D-4A58-A44B-85FAAAFB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6172200" cy="183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ate rati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/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density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162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716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657600"/>
            <a:ext cx="4572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911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71625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01028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6705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51439"/>
          <a:stretch/>
        </p:blipFill>
        <p:spPr>
          <a:xfrm>
            <a:off x="990720" y="17524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9720" y="2362320"/>
            <a:ext cx="42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3800" y="5029200"/>
            <a:ext cx="7145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3276720"/>
            <a:ext cx="76176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276720"/>
            <a:ext cx="76212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181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ebff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457200"/>
            <a:ext cx="70866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e2dc"/>
                </a:solidFill>
                <a:latin typeface="Arial"/>
              </a:rPr>
              <a:t>Quantify relationship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Measure of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5410080"/>
            <a:ext cx="6477120" cy="64260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02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